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3E88-7745-4939-8F7D-59318585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1CE-816E-473F-BB6A-549B0C73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B32-FA43-49C0-A220-94A7ABBA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E77-F4DF-4066-A884-2DD70934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42A5-B3F2-4799-9020-359A68D1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5AE-325D-49E0-8D58-7CFDEE50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EC4-F790-4492-823D-0B7A8710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2BD-2C76-4087-B135-6BF09F0F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3514-EF4E-4C96-8476-23463EF6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B24B-ED32-4762-BA78-79ED69A2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1FC-395F-44C6-8318-6E7E54BE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171-783B-4217-90AF-A44A8B51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BB3D-B34F-408A-AAE8-0F99E64153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ALGE</dc:creator>
  <dc:description/>
  <dc:language>en-US</dc:language>
  <cp:lastModifiedBy>ALGE</cp:lastModifiedBy>
  <dcterms:modified xsi:type="dcterms:W3CDTF">2012-11-27T08:26:21Z</dcterms:modified>
  <cp:revision>5</cp:revision>
  <dc:subject/>
  <dc:title>themse</dc:title>
</cp:coreProperties>
</file>